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B045-CF26-4F43-BC87-AD9424226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E582-2317-4B34-8FE6-9DAAC25F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D24D-1FC7-4020-A8FD-71FBDAC47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9759-FA2F-4579-8A67-744B6EE29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1590-63BB-44A8-B9E3-180EC90A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AC59-59F7-4C65-9312-D2A7EC5F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990F-060A-4465-B658-68D55394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3143-B8DF-465A-A0B6-2E450240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3770-A2C9-456B-9E1E-8EC20276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A937-543B-4EEB-9679-2C95FD56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A839-AB6D-4638-A7A1-B53425E4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A802-FAE9-452C-9DE2-FB90C951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8D48-6B36-4B49-99D8-E3423CA86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outhAmericaSpace"/>
          <p:cNvPicPr/>
          <p:nvPr/>
        </p:nvPicPr>
        <p:blipFill>
          <a:blip r:embed="rId1"/>
          <a:stretch/>
        </p:blipFill>
        <p:spPr>
          <a:xfrm>
            <a:off x="0" y="0"/>
            <a:ext cx="9144000" cy="7543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South Ame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Riley Joh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onsored by O’Reilly auto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Not valid in South Americ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stellar"/>
              </a:rPr>
              <a:t>Peo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of about 382 mill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6% of the world’s pop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races are very dive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12 nations and 3 territ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person_climbing_stairs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dollar-sign"/>
          <p:cNvPicPr/>
          <p:nvPr/>
        </p:nvPicPr>
        <p:blipFill>
          <a:blip r:embed="rId1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DP Currency of $2,865 trill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es heavily on exporting goods like sugarcane, Coffee, and Cot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zil exports about $137.8 billion a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soccer-boys"/>
          <p:cNvPicPr/>
          <p:nvPr/>
        </p:nvPicPr>
        <p:blipFill>
          <a:blip r:embed="rId1"/>
          <a:stretch/>
        </p:blipFill>
        <p:spPr>
          <a:xfrm>
            <a:off x="0" y="0"/>
            <a:ext cx="9144000" cy="68104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otball (soccer) is the most popular sport in South Ameri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outh American teams have a total of 9 world cups in soccer. Brazil owning 5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outh America will host its first Olympic games at Rio de Janeiro in 2016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ther sports include Basketball, Rugby union, Tennis, Golf, Volleyball, Hockey, Beach Volleyball, Baseball, and many oth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rgest continent in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rgest continent in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 people per square m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only 2 countries that do not border Brazil. Chile and Ecuad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3T19:23:52Z</dcterms:created>
  <dc:creator>Classroom/Lab</dc:creator>
  <dc:description/>
  <dc:language>en-US</dc:language>
  <cp:lastModifiedBy>JSEAQUIS</cp:lastModifiedBy>
  <dcterms:modified xsi:type="dcterms:W3CDTF">2011-03-21T15:57:45Z</dcterms:modified>
  <cp:revision>2</cp:revision>
  <dc:subject/>
  <dc:title>South America</dc:title>
</cp:coreProperties>
</file>